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82548"/>
        <c:axId val="28378667"/>
      </c:barChart>
      <c:catAx>
        <c:axId val="45182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78667"/>
        <c:crosses val="autoZero"/>
        <c:auto val="1"/>
        <c:lblAlgn val="ctr"/>
        <c:lblOffset val="100"/>
        <c:noMultiLvlLbl val="0"/>
      </c:catAx>
      <c:valAx>
        <c:axId val="28378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82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3B6-5B07-4E91-BB4D-05E40A47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2B3-89CA-4C46-BABA-BFD156E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861-B8C4-4B93-A35D-2182B5E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760-FF91-4BE5-82B2-D7D3850B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4AC-902B-4D1E-B53F-040F99B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5E1-4C11-4739-BC6B-B4C63A1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16B-C401-47A6-8514-4411789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EE0-EFD5-4805-AF0E-146CFA9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70F-433D-4803-A0FF-147A9ED1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F07-1CBF-4B77-B336-ADC5043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C8B-E844-4B33-925E-9B486E1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D77-8546-4A6C-9FD5-3A4DE998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358F4-CA05-4C8E-9F57-4EDE50B2B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