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46943"/>
        <c:axId val="48422458"/>
      </c:barChart>
      <c:catAx>
        <c:axId val="19446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22458"/>
        <c:crosses val="autoZero"/>
        <c:auto val="1"/>
        <c:lblAlgn val="ctr"/>
        <c:lblOffset val="100"/>
        <c:noMultiLvlLbl val="0"/>
      </c:catAx>
      <c:valAx>
        <c:axId val="48422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46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8CB-20ED-432B-8C66-EA1FCEF2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C70-7B61-40A2-926C-A5FF8B97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529-4D8F-4D94-A977-292321F0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658-EB2C-4FF9-8CAF-1581B001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555-1107-4167-9E32-271DF95E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D8F-DF38-4FED-985F-1E9A7133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97E-024F-40A0-A4F1-830F5E76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5B8-8F82-4D34-9F21-4A2462FA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46E-A0AB-43AE-AEFB-F4D0E325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A74-9468-4441-BF3E-3785F95E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8CB-C93C-4C2D-9B9C-FE50A87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073-9596-4206-B0A3-8BAEABC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9ED98-C39D-4559-BBDC-4024930BF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