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917333"/>
        <c:axId val="8708721"/>
      </c:barChart>
      <c:catAx>
        <c:axId val="619173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8721"/>
        <c:crosses val="autoZero"/>
        <c:auto val="1"/>
        <c:lblAlgn val="ctr"/>
        <c:lblOffset val="100"/>
        <c:noMultiLvlLbl val="0"/>
      </c:catAx>
      <c:valAx>
        <c:axId val="87087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173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288-0EA5-4976-9166-C9795CB5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94E-0333-41BD-B2B6-BD4C8110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7CA8-F3FA-42DE-A2CD-FFD1AE9C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02A0-07A9-46AA-9DD9-C4FE5E78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1277-B057-40B5-B462-3304E3CF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15E1-3687-4584-889C-DE30151C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31A-4C78-4531-85C2-769DA740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2D39-FB32-4A82-81B3-8129AC5A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5BCD-9999-4105-A396-BF5DFF7E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8DD-1135-4564-AF6E-A79BC9B5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C52-105A-4C58-9678-9A053341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3D15-13CC-492F-872B-6D1ECF4C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5F1A8-31DB-4357-83D4-C23CE80823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