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09358"/>
        <c:axId val="52396334"/>
      </c:barChart>
      <c:catAx>
        <c:axId val="806093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96334"/>
        <c:crosses val="autoZero"/>
        <c:auto val="1"/>
        <c:lblAlgn val="ctr"/>
        <c:lblOffset val="100"/>
        <c:noMultiLvlLbl val="0"/>
      </c:catAx>
      <c:valAx>
        <c:axId val="523963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093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062-A7E4-409C-A391-2FFA2211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448C-FB28-407F-AD0B-D2071CB6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603F-577E-4D6B-B797-13269933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3A09-7D6E-4D8A-89ED-1793735F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7BBB-3C77-4F5B-984B-83553AF7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DA93-3250-44A9-9716-2B10EE19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C5C0-CAF8-40AF-933F-0461F9FA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3D2A-A42A-4E61-B4EE-731C1F55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1AC-6C3F-402C-B974-E5A97E46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41A-C0C6-45FB-9F12-8C12C321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A79F-923A-4F54-A933-230C1BE7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3EC5-FD17-4103-8587-BE97B2EA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90D76-1C9F-4F81-8CA1-73DF6818DC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